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applause.wav" ContentType="audio/x-wav"/>
  <Override PartName="/ppt/media/drumroll.wav" ContentType="audio/x-wav"/>
  <Override PartName="/ppt/media/image7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5830-9AD5-4215-84BB-6973E34096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s 10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95B-86B3-433A-BBFC-BAD85D3E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EF4-BC5E-41BA-AAD9-B219881E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325-E7C6-4FE4-BDEF-97E95E2B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A14-E348-419D-8576-A22442B5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900-5DE1-4037-9882-16EC9BB5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46D-361A-4C63-BDA6-31345CDB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179-2C5D-4173-87F2-58D74D38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291-29A9-466B-B567-03C5279C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025-32EF-4B34-8773-0AA33536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36B-9883-4E6B-9703-614A1D1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102-1F2F-49EF-94BE-5D34A769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8B0-EAD5-44DC-BCD7-4ED23E59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8FDF-95C4-4B9D-82C7-92885B168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457200"/>
            <a:ext cx="8458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ggy Colson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inical Terminolog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des 10-12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loopclock"/>
          <p:cNvPicPr/>
          <p:nvPr/>
        </p:nvPicPr>
        <p:blipFill>
          <a:blip r:embed="rId1"/>
          <a:stretch/>
        </p:blipFill>
        <p:spPr>
          <a:xfrm>
            <a:off x="3124080" y="1523880"/>
            <a:ext cx="2514600" cy="2438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2666880" y="2286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q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447920" y="403848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every h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1447920" y="55627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Quaque hora - L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685800" y="380880"/>
            <a:ext cx="792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.i.d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ur times daily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838080" y="5334120"/>
            <a:ext cx="7467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ater in die -Lati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4" descr="wb01330_"/>
          <p:cNvPicPr/>
          <p:nvPr/>
        </p:nvPicPr>
        <p:blipFill>
          <a:blip r:embed="rId1"/>
          <a:stretch/>
        </p:blipFill>
        <p:spPr>
          <a:xfrm>
            <a:off x="29718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wb01330_"/>
          <p:cNvPicPr/>
          <p:nvPr/>
        </p:nvPicPr>
        <p:blipFill>
          <a:blip r:embed="rId2"/>
          <a:stretch/>
        </p:blipFill>
        <p:spPr>
          <a:xfrm>
            <a:off x="68580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wb01330_"/>
          <p:cNvPicPr/>
          <p:nvPr/>
        </p:nvPicPr>
        <p:blipFill>
          <a:blip r:embed="rId3"/>
          <a:stretch/>
        </p:blipFill>
        <p:spPr>
          <a:xfrm>
            <a:off x="48769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wb01330_"/>
          <p:cNvPicPr/>
          <p:nvPr/>
        </p:nvPicPr>
        <p:blipFill>
          <a:blip r:embed="rId4"/>
          <a:stretch/>
        </p:blipFill>
        <p:spPr>
          <a:xfrm>
            <a:off x="1066680" y="2514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228600"/>
            <a:ext cx="7391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o.d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 other da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219320" y="5410080"/>
            <a:ext cx="6324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 otro die - 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4" descr="wb01330_"/>
          <p:cNvPicPr/>
          <p:nvPr/>
        </p:nvPicPr>
        <p:blipFill>
          <a:blip r:embed="rId1"/>
          <a:stretch/>
        </p:blipFill>
        <p:spPr>
          <a:xfrm>
            <a:off x="380880" y="2362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b01330_"/>
          <p:cNvPicPr/>
          <p:nvPr/>
        </p:nvPicPr>
        <p:blipFill>
          <a:blip r:embed="rId2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na00494_"/>
          <p:cNvPicPr/>
          <p:nvPr/>
        </p:nvPicPr>
        <p:blipFill>
          <a:blip r:embed="rId3"/>
          <a:stretch/>
        </p:blipFill>
        <p:spPr>
          <a:xfrm>
            <a:off x="2209680" y="259092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00494_"/>
          <p:cNvPicPr/>
          <p:nvPr/>
        </p:nvPicPr>
        <p:blipFill>
          <a:blip r:embed="rId4"/>
          <a:stretch/>
        </p:blipFill>
        <p:spPr>
          <a:xfrm>
            <a:off x="5867280" y="25146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wb01330_"/>
          <p:cNvPicPr/>
          <p:nvPr/>
        </p:nvPicPr>
        <p:blipFill>
          <a:blip r:embed="rId5"/>
          <a:stretch/>
        </p:blipFill>
        <p:spPr>
          <a:xfrm>
            <a:off x="7391520" y="23623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838080" y="304920"/>
            <a:ext cx="7086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ufficient quantit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609480" y="4267080"/>
            <a:ext cx="7543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uantum sufficiat 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838080" y="1371600"/>
            <a:ext cx="65534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uar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557360" y="2570040"/>
            <a:ext cx="6029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#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e02716_"/>
          <p:cNvPicPr/>
          <p:nvPr/>
        </p:nvPicPr>
        <p:blipFill>
          <a:blip r:embed="rId1"/>
          <a:stretch/>
        </p:blipFill>
        <p:spPr>
          <a:xfrm>
            <a:off x="304920" y="3733920"/>
            <a:ext cx="3581280" cy="270648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838080" y="533520"/>
            <a:ext cx="73915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t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tien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049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16002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1143000" y="1523880"/>
            <a:ext cx="7315200" cy="308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ulv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owder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04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3"/>
          <p:cNvSpPr txBox="1"/>
          <p:nvPr/>
        </p:nvSpPr>
        <p:spPr>
          <a:xfrm>
            <a:off x="914400" y="1447920"/>
            <a:ext cx="72388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vt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riv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990720" y="762120"/>
            <a:ext cx="7010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65" name="Picture 4" descr="pe02364_"/>
          <p:cNvPicPr/>
          <p:nvPr/>
        </p:nvPicPr>
        <p:blipFill>
          <a:blip r:embed="rId1"/>
          <a:stretch/>
        </p:blipFill>
        <p:spPr>
          <a:xfrm>
            <a:off x="1143000" y="4114800"/>
            <a:ext cx="655308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33520" y="1143000"/>
            <a:ext cx="7848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-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447920" y="1143000"/>
            <a:ext cx="6329160" cy="44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A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ality assuranc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838080" y="5335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d 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 da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914400" y="3886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aque die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9:13:21Z</dcterms:created>
  <dc:creator>Graves County High School</dc:creator>
  <dc:description/>
  <dc:language>en-US</dc:language>
  <cp:lastModifiedBy>LEGION2</cp:lastModifiedBy>
  <dcterms:modified xsi:type="dcterms:W3CDTF">2016-01-14T08:34:39Z</dcterms:modified>
  <cp:revision>22</cp:revision>
  <dc:subject/>
  <dc:title>PowerPoint Presentation</dc:title>
</cp:coreProperties>
</file>